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5B2F-B089-4977-93B3-4F6D5880E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D531-4296-4883-8EED-D3B73F39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747C-300F-4141-A760-3DDEFF83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F856-D73D-4724-B1DA-1CAF59BFF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10EA-8899-411D-9BAA-AFDD205F7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7C70-04D4-4459-BD8D-F4B579EC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07B7-35C3-482F-9D7C-CFFED06B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D17D-6465-4F2F-83EA-8F600FFE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66A3-F48F-43DC-8872-0A16525A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409E-A068-4174-9346-208DC233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39F7-F1BD-485B-92F7-0C600872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04BE-770C-4027-A092-7E6505DD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2B34-64F3-49F3-9888-89C6F1AC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627C-27DD-47EA-A34F-E9865C68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9DDA-499F-488A-8CE6-C42E9B40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2633-42B1-4920-8D7C-ADA78B6CD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96FC-D3FE-4301-B59A-4CDC69D6C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6A26-0B56-4CFE-8C0E-AE783CBE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4BBC-B42E-45BA-BB3E-20B37F08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659D-AD47-47C7-99F4-C67ACC2E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F961-4BB2-4CEE-BB24-3A682678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A7B0-65FF-48AC-BCB9-E91924A6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2C73-8CA9-40C8-B400-E9704261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2C26-0BC4-4756-AAA0-763152B1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B14D-B4B3-4BD7-8E3F-410A00DB73D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B6A5-E3E1-4804-ACE7-10B61953315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813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四章 寄生虫感染的免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unity in Parasitic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慢性感染和进行性感染都反映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可有效地逃避宿主的免疫效应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逃避机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组织学隔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变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伪装（拟态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表面脱落和更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抑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四、免疫逃避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785988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研究抗寄生虫的特异性适应性免疫，对理解寄生虫的致病机制、免疫诊断、流行和防治等都具有十分重要的意义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一、寄生虫抗原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于寄生虫的结构和生活史复杂使寄生虫抗原具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复杂性：表面抗原、代谢抗原和虫体抗原，以表面抗原和代谢抗原的免疫源性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多源性：具有属、种、株和期的特异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二、抗寄生虫的适应性免疫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5708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热带利什曼原虫引起的东方疖可产生消除性免疫，这种免疫现象在寄生虫感染中罕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非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带虫免疫：某些寄生虫感染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疟原虫、刚地弓形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可诱导一种特异性免疫应答，使宿主体内的寄生虫数量降低，增殖减慢、维持低水平虫荷，导致临床痊愈，并产生抗特异性攻击的能力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伴随免疫：有些蠕虫感染（日本血吸虫）可诱导宿主产生抗同种寄生虫幼虫再感染的能力，而已寄生的成虫不受保护性免疫的影响，继续存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89080" y="4110120"/>
            <a:ext cx="2303280" cy="22543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348000" y="4070520"/>
            <a:ext cx="1541520" cy="2311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796000" y="4076640"/>
            <a:ext cx="3168720" cy="2257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64008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疟原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70120" y="64008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（刚地弓形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24360" y="640080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伴随免疫（日本血吸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三、免疫效应机制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效应机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受体封闭和封闭细胞的黏合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性细胞介导的细胞毒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DC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经典的补体途径介导依赖抗体杀伤寄生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3602160" cy="2203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770200" y="439416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介导免疫：抗寄生虫的适应性免疫中细胞免疫起重要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淋巴因子活化效应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700360" y="2997360"/>
            <a:ext cx="36021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毒淋巴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自然杀伤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625840" y="1341360"/>
            <a:ext cx="3601800" cy="2203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627280" y="429264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9:27:14Z</dcterms:modified>
  <cp:revision>122</cp:revision>
  <dc:subject/>
  <dc:title>医学寄生虫学总论</dc:title>
</cp:coreProperties>
</file>